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C2F-CB99-4C0C-BE3B-3B706966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55F2-65F7-4B1E-A50E-85F18B8F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6918-E536-4621-AA3E-F1351C01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1C2-FDAB-4818-8AD0-DD4B481B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6DC-3999-4795-8DB8-83DCEADF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0A65-757E-42D4-94EB-9D5F8EBF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4B9-93A9-40AC-8D9F-B45890D6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FF0-0C99-4A68-AE34-CA5EBD7D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6854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85F6-B4BD-4478-9CEB-9802C609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616B-D690-4FB7-B125-183BDCB1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800-61DD-468D-9832-9C8A3290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63B-99E1-4556-9943-7EBCCD0B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66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EFC9-6BC9-47B5-98A5-1D34FC157A84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9DBC-EEE8-4F41-98ED-D865DA9E51A2}" type="slidenum"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logo" descr=""/>
          <p:cNvPicPr/>
          <p:nvPr/>
        </p:nvPicPr>
        <p:blipFill>
          <a:blip r:embed="rId2"/>
          <a:stretch/>
        </p:blipFill>
        <p:spPr>
          <a:xfrm>
            <a:off x="7888320" y="685800"/>
            <a:ext cx="49356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72400" y="13716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LU veileder om forklaringer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990000"/>
                </a:solidFill>
                <a:latin typeface="Times New Roman"/>
              </a:rPr>
              <a:t>Kurs for turneringslede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990000"/>
                </a:solidFill>
                <a:latin typeface="Times New Roman"/>
              </a:rPr>
              <a:t>Trondheim 3-5 mai 2002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F352-8BFF-4B4F-95A9-D09953FA904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70840-9611-4A39-9EB6-CA2A7024B4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Korreksjon av forklaring</a:t>
            </a:r>
            <a:r>
              <a:rPr b="1" lang="nb-NO" sz="4400" spc="-1" strike="noStrike">
                <a:solidFill>
                  <a:srgbClr val="000066"/>
                </a:solidFill>
                <a:latin typeface="Times New Roman"/>
              </a:rPr>
              <a:t> I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En spiller som hører sin makker gi en forklaring som avviker fra egen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forståelse av makkeravtalen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 ,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er pålagt å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 korrigere forklaringen. 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(i rett tid)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Korreksjon kan unnlates bare når spilleren blir oppmerksom på at han selv etter avtalen har meldt feil og han kan godtgjøre dette på stede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Når makkeravtalen ikke kan dokumenteres så er regelen at melderens forståelse av avtalen er den rette og at forklaringen er fei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79A-9FFF-4567-AC81-CE3CD3636B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0BE34-B30C-4EA6-A05C-4904662A65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Rett til forklaring</a:t>
            </a:r>
            <a:r>
              <a:rPr b="1" lang="nb-NO" sz="4400" spc="-1" strike="noStrike">
                <a:solidFill>
                  <a:srgbClr val="000066"/>
                </a:solidFill>
                <a:latin typeface="Times New Roman"/>
              </a:rPr>
              <a:t>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990000"/>
                </a:solidFill>
                <a:latin typeface="Arial"/>
                <a:ea typeface="Arial"/>
              </a:rPr>
              <a:t>§ 75 </a:t>
            </a:r>
            <a:r>
              <a:rPr b="1" lang="en-GB" sz="2800" spc="-1" strike="noStrike">
                <a:solidFill>
                  <a:srgbClr val="990000"/>
                </a:solidFill>
                <a:latin typeface="Arial"/>
                <a:ea typeface="Arial"/>
              </a:rPr>
              <a:t>A SPESIELLE MAKKERAVTALER</a:t>
            </a:r>
            <a:br>
              <a:rPr sz="3200"/>
            </a:br>
            <a:r>
              <a:rPr b="0" lang="en-GB" sz="3200" spc="-1" strike="noStrike">
                <a:solidFill>
                  <a:srgbClr val="990000"/>
                </a:solidFill>
                <a:latin typeface="Arial"/>
                <a:ea typeface="Arial"/>
              </a:rPr>
              <a:t>Spesielle makkeravtaler må være fullstendig og ubetinget tilgjengelige for motstanderne (se </a:t>
            </a:r>
            <a:r>
              <a:rPr b="0" lang="nb-NO" sz="3200" spc="-1" strike="noStrike">
                <a:solidFill>
                  <a:srgbClr val="990000"/>
                </a:solidFill>
                <a:latin typeface="Arial"/>
                <a:ea typeface="Arial"/>
              </a:rPr>
              <a:t>§ 40</a:t>
            </a:r>
            <a:r>
              <a:rPr b="0" lang="en-GB" sz="3200" spc="-1" strike="noStrike">
                <a:solidFill>
                  <a:srgbClr val="990000"/>
                </a:solidFill>
                <a:latin typeface="Arial"/>
                <a:ea typeface="Arial"/>
              </a:rPr>
              <a:t>),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uansett om de er klart avtal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eller underforstått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Arial"/>
                <a:ea typeface="Arial"/>
              </a:rPr>
              <a:t>Den informasjon som formidles til makker gjennom slike avtaler må kun formidles gjennom meldinger, spill og betingelsene for den aktuelle giv.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DD91-BEC3-4081-B5E9-14C534C922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851E7-1369-418C-A76E-283AA8024C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Rett til forklaring</a:t>
            </a: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 I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En spiller har rett til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Å se på motpartens systemkor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Å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be om å få forklart meldinger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når det er hans tur til å melde eller spille.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(§20, 40)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Spørsmålet bør holdes i en nøytral form som ikke formidler urettmessig informasjon til makker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Det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er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 uetisk å spørre for å henlede makkers oppmerksomhet på noe en selv vet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tte kan straffes som urettmessig informasjon</a:t>
            </a: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 fra makker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DEB-B254-44B0-B308-5656E65C23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4E9E2-1716-48C7-A371-A8A314E98C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Hva skal forklares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En forklaring skal innholde opplysning om hva meldinger betyr etter parets makkeravtale.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En makkeravtale omfatter ikke bare eksplisitt avtalte situasjoner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men også felles forståelse opparbeidet gjennom makkerskap eller tilhold i samme miljø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ersom det ikke er noen makkeravtale, har motparten bare krav på informasjon om dette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Times New Roman"/>
              </a:rPr>
              <a:t>Vel etablerte par bør være varsom</a:t>
            </a:r>
            <a:r>
              <a:rPr b="1" lang="nb-NO" sz="1600" spc="-1" strike="noStrike">
                <a:solidFill>
                  <a:srgbClr val="990000"/>
                </a:solidFill>
                <a:latin typeface="Times New Roman"/>
              </a:rPr>
              <a:t>me</a:t>
            </a:r>
            <a:r>
              <a:rPr b="1" lang="en-GB" sz="1600" spc="-1" strike="noStrike">
                <a:solidFill>
                  <a:srgbClr val="990000"/>
                </a:solidFill>
                <a:latin typeface="Times New Roman"/>
              </a:rPr>
              <a:t> med å påberope seg ikke-avtale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Dersom en spiller forsøker å forklare en melding når det ikke er noen avtale,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så er det lett å komme i skade for å gi feil forklaring til motparten og samtidig urettmessig informasjon til makk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A9BC-6A6F-40F5-B007-44F46D63D6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1A752-F5B2-40A9-A01E-8B9686F4C3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Hvordan forklare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En forklaring bør fokusere på hva makkers melding viser at han </a:t>
            </a:r>
            <a:r>
              <a:rPr b="1" i="1" lang="en-GB" sz="2400" spc="-1" strike="noStrike">
                <a:solidFill>
                  <a:srgbClr val="990000"/>
                </a:solidFill>
                <a:latin typeface="Times New Roman"/>
              </a:rPr>
              <a:t>har</a:t>
            </a:r>
            <a:r>
              <a:rPr b="0" i="1" lang="en-GB" sz="2400" spc="-1" strike="noStrike">
                <a:solidFill>
                  <a:srgbClr val="990000"/>
                </a:solidFill>
                <a:latin typeface="Times New Roman"/>
              </a:rPr>
              <a:t>. </a:t>
            </a: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Til dette er det  mest hensiktsmessig å bruke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tall</a:t>
            </a: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for fargelengder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honnørpoeng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spillestikk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tapere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eller andre størrelser som inngår i systemdefinisjonen, avtalen eller deres felles forståelse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et er lite opplysende å bruke ord som</a:t>
            </a:r>
            <a:r>
              <a:rPr b="0" i="1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har åpning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sperrebeton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 eller</a:t>
            </a: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 spillemelding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Det er også viktig at forklaringen i form viser respekt for at motparten kanskje har en annen sjargong eller kommer fra et bridgemiljø med et annet tankesett.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B60-56C3-47C9-827B-E485AD4434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22CDA-DCB3-46E9-B9F3-C17F7F3BE9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OM HUK konvensjoner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eldingene skal være mest mulig veldefinerte, F.eks 1♥ - D - 1♠ alert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eldingen sier ingenting om sparfargen, og meldingen er krav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Forsvarsforslaget skal være på vedlegget til systemkortet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tspillerne kan studere forsvaret under hele meldingsforløpet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Det er ikke nok å si hvilken gruppe HUK meldingen tilhører)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1C75-EE55-46A2-8159-7C43D47D39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C5024-16D4-4F94-99D7-5BE12CC7EE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Når en  ikke kan svare på spørsmå</a:t>
            </a: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l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§20 F1 sier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”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svar på spørsmål om makkeravtaler bør normalt gis av makkeren til den spilleren som har avgitt den aktuelle meldingen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”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Hvis denne spilleren har glemt avtalen så kan TL ta spilleren bort fra bordet og la den som har avgitt meldingen forklare makkeravtalen.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(Han har i så fall ingen plikt til å avsløre en bløff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Merk at selv opplysningen om glemt avtale kan bli dømt som </a:t>
            </a: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UI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3DBD-8DA5-446A-8B2F-6BE0AC4F84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06162-B341-4C5C-B29B-360DF1DEDC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Når en  ikke kan svare på spørsmå</a:t>
            </a: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l I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990000"/>
                </a:solidFill>
                <a:latin typeface="Times New Roman"/>
              </a:rPr>
              <a:t>Når det ikke er noen makkeravtal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66"/>
                </a:solidFill>
                <a:latin typeface="Times New Roman"/>
              </a:rPr>
              <a:t>Det er klare krav til ikke-avtal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990000"/>
                </a:solidFill>
                <a:latin typeface="Times New Roman"/>
              </a:rPr>
              <a:t>Makkerpar med 2-300 spill bak seg har ”avtaler” om det aller meste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66"/>
                </a:solidFill>
                <a:latin typeface="Times New Roman"/>
              </a:rPr>
              <a:t>Motstanderne har bare krav på opplysning om ikke-avtal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66"/>
                </a:solidFill>
                <a:latin typeface="Times New Roman"/>
              </a:rPr>
              <a:t>Det er alltid UI til makker å si hva en tror det 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66"/>
                </a:solidFill>
                <a:latin typeface="Times New Roman"/>
              </a:rPr>
              <a:t>Motparten har ikke rett til å vite hvilken tolkning som er grunnlaget for svarerens senere meldinger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B4BF-C185-4152-93CA-821F52F38D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C4F18-0477-4C0A-9A37-4DEF8EECBA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Korreksjon av forklaring</a:t>
            </a: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990000"/>
                </a:solidFill>
                <a:latin typeface="Times New Roman"/>
              </a:rPr>
              <a:t>Spillerne har plikt til å korrigere makkers feil forklaring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66"/>
                </a:solidFill>
                <a:latin typeface="Times New Roman"/>
              </a:rPr>
              <a:t>Spillefører og blindemann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0000"/>
                </a:solidFill>
                <a:latin typeface="Times New Roman"/>
              </a:rPr>
              <a:t>Etter avsluttende pass og før åpningsutspillet blir snud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66"/>
                </a:solidFill>
                <a:latin typeface="Times New Roman"/>
              </a:rPr>
              <a:t>Motspill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0000"/>
                </a:solidFill>
                <a:latin typeface="Times New Roman"/>
              </a:rPr>
              <a:t>Etter at spillet er slut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CB6-865A-4B35-BB6C-82A5699890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6235A-BE3D-4A85-80A4-8DF9AEB302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4:54:29Z</dcterms:created>
  <dc:creator>Per Nordland</dc:creator>
  <dc:description/>
  <dc:language>en-US</dc:language>
  <cp:lastModifiedBy>Per Nordland</cp:lastModifiedBy>
  <dcterms:modified xsi:type="dcterms:W3CDTF">2002-05-17T19:40:10Z</dcterms:modified>
  <cp:revision>5</cp:revision>
  <dc:subject/>
  <dc:title>LU veileder om forklaringer</dc:title>
</cp:coreProperties>
</file>